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wmf" ContentType="image/x-wmf"/>
  <Override PartName="/ppt/media/image2.png" ContentType="image/png"/>
  <Override PartName="/ppt/media/horse_pass2.wav" ContentType="audio/x-wav"/>
  <Override PartName="/ppt/media/bell2.wav" ContentType="audio/x-wav"/>
  <Override PartName="/ppt/media/loud_whinny.wav" ContentType="audio/x-wav"/>
  <Override PartName="/ppt/media/image3.png" ContentType="image/png"/>
  <Override PartName="/ppt/media/image4.png" ContentType="image/png"/>
  <Override PartName="/ppt/media/horse_snort1.wav" ContentType="audio/x-wav"/>
  <Override PartName="/ppt/media/horse_scream1.wav" ContentType="audio/x-wav"/>
  <Override PartName="/ppt/media/horse_whine1.WAV" ContentType="audio/x-wav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B03-F2CF-4540-85E3-28252A3C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E08-B455-453F-AFC5-BF2187A4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5E4-FC5D-467E-8E63-EE5EB6DA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A65-EA18-448D-98FD-B95C8BF8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1F3-D462-4EFA-80CF-8F77869B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6E8-B6F5-4192-9960-C680D71C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9F0-4DD2-4520-8A8B-8ADBF3F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BE4-9F6D-4F84-9F16-E0262EA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252-A071-4B4C-A176-C25F38A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274-2151-4E1D-A3DA-925B53E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93D-5853-4D13-BA1F-D94C677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097-C21E-4156-9AEB-3AF3D42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8CDA-A642-4DF9-91D1-4E66B658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ell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horse_pass2.wav"/><Relationship Id="rId9" Type="http://schemas.openxmlformats.org/officeDocument/2006/relationships/audio" Target="../media/horse_snort1.wav"/><Relationship Id="rId10" Type="http://schemas.openxmlformats.org/officeDocument/2006/relationships/audio" Target="../media/horse_whine1.WAV"/><Relationship Id="rId11" Type="http://schemas.openxmlformats.org/officeDocument/2006/relationships/audio" Target="../media/loud_whinny.wav"/><Relationship Id="rId12" Type="http://schemas.openxmlformats.org/officeDocument/2006/relationships/audio" Target="../media/horse_snort1.wav"/><Relationship Id="rId13" Type="http://schemas.openxmlformats.org/officeDocument/2006/relationships/audio" Target="../media/horse_whine1.WAV"/><Relationship Id="rId14" Type="http://schemas.openxmlformats.org/officeDocument/2006/relationships/audio" Target="../media/horse_scream1.wav"/><Relationship Id="rId15" Type="http://schemas.openxmlformats.org/officeDocument/2006/relationships/audio" Target="../media/horse_snort1.wav"/><Relationship Id="rId16" Type="http://schemas.openxmlformats.org/officeDocument/2006/relationships/audio" Target="../media/loud_whinny.wav"/><Relationship Id="rId17" Type="http://schemas.openxmlformats.org/officeDocument/2006/relationships/audio" Target="../media/applause.wav"/><Relationship Id="rId18" Type="http://schemas.openxmlformats.org/officeDocument/2006/relationships/audio" Target="../media/horse_pass2.wav"/><Relationship Id="rId19" Type="http://schemas.openxmlformats.org/officeDocument/2006/relationships/audio" Target="../media/horse_snort1.wav"/><Relationship Id="rId20" Type="http://schemas.openxmlformats.org/officeDocument/2006/relationships/audio" Target="../media/horse_snort1.wav"/><Relationship Id="rId21" Type="http://schemas.openxmlformats.org/officeDocument/2006/relationships/audio" Target="../media/loud_whinny.wav"/><Relationship Id="rId22" Type="http://schemas.openxmlformats.org/officeDocument/2006/relationships/audio" Target="../media/horse_scream1.wav"/><Relationship Id="rId23" Type="http://schemas.openxmlformats.org/officeDocument/2006/relationships/audio" Target="../media/horse_whine1.WAV"/><Relationship Id="rId24" Type="http://schemas.openxmlformats.org/officeDocument/2006/relationships/audio" Target="../media/horse_snort1.wav"/><Relationship Id="rId25" Type="http://schemas.openxmlformats.org/officeDocument/2006/relationships/audio" Target="../media/loud_whinny.wav"/><Relationship Id="rId26" Type="http://schemas.openxmlformats.org/officeDocument/2006/relationships/audio" Target="../media/horse_scream1.wav"/><Relationship Id="rId27" Type="http://schemas.openxmlformats.org/officeDocument/2006/relationships/audio" Target="../media/applause.wav"/><Relationship Id="rId28" Type="http://schemas.openxmlformats.org/officeDocument/2006/relationships/audio" Target="../media/horse_pass2.wav"/><Relationship Id="rId29" Type="http://schemas.openxmlformats.org/officeDocument/2006/relationships/audio" Target="../media/loud_whinny.wav"/><Relationship Id="rId30" Type="http://schemas.openxmlformats.org/officeDocument/2006/relationships/audio" Target="../media/horse_whine1.WAV"/><Relationship Id="rId31" Type="http://schemas.openxmlformats.org/officeDocument/2006/relationships/audio" Target="../media/horse_snort1.wav"/><Relationship Id="rId32" Type="http://schemas.openxmlformats.org/officeDocument/2006/relationships/audio" Target="../media/horse_scream1.wav"/><Relationship Id="rId33" Type="http://schemas.openxmlformats.org/officeDocument/2006/relationships/audio" Target="../media/horse_whine1.WAV"/><Relationship Id="rId34" Type="http://schemas.openxmlformats.org/officeDocument/2006/relationships/audio" Target="../media/loud_whinny.wav"/><Relationship Id="rId35" Type="http://schemas.openxmlformats.org/officeDocument/2006/relationships/audio" Target="../media/horse_whine1.WAV"/><Relationship Id="rId36" Type="http://schemas.openxmlformats.org/officeDocument/2006/relationships/audio" Target="../media/horse_scream1.wav"/><Relationship Id="rId37" Type="http://schemas.openxmlformats.org/officeDocument/2006/relationships/audio" Target="../media/applause.wav"/><Relationship Id="rId38" Type="http://schemas.openxmlformats.org/officeDocument/2006/relationships/audio" Target="../media/horse_pass2.wav"/><Relationship Id="rId39" Type="http://schemas.openxmlformats.org/officeDocument/2006/relationships/audio" Target="../media/loud_whinny.wav"/><Relationship Id="rId40" Type="http://schemas.openxmlformats.org/officeDocument/2006/relationships/audio" Target="../media/horse_snort1.wav"/><Relationship Id="rId41" Type="http://schemas.openxmlformats.org/officeDocument/2006/relationships/audio" Target="../media/horse_whine1.WAV"/><Relationship Id="rId42" Type="http://schemas.openxmlformats.org/officeDocument/2006/relationships/audio" Target="../media/horse_scream1.wav"/><Relationship Id="rId43" Type="http://schemas.openxmlformats.org/officeDocument/2006/relationships/audio" Target="../media/loud_whinny.wav"/><Relationship Id="rId44" Type="http://schemas.openxmlformats.org/officeDocument/2006/relationships/audio" Target="../media/horse_whine1.WAV"/><Relationship Id="rId45" Type="http://schemas.openxmlformats.org/officeDocument/2006/relationships/audio" Target="../media/horse_snort1.wav"/><Relationship Id="rId46" Type="http://schemas.openxmlformats.org/officeDocument/2006/relationships/audio" Target="../media/horse_scream1.wav"/><Relationship Id="rId47" Type="http://schemas.openxmlformats.org/officeDocument/2006/relationships/audio" Target="../media/applause.wav"/><Relationship Id="rId48" Type="http://schemas.openxmlformats.org/officeDocument/2006/relationships/audio" Target="../media/horse_pass2.wav"/><Relationship Id="rId49" Type="http://schemas.openxmlformats.org/officeDocument/2006/relationships/audio" Target="../media/loud_whinny.wav"/><Relationship Id="rId50" Type="http://schemas.openxmlformats.org/officeDocument/2006/relationships/audio" Target="../media/horse_snort1.wav"/><Relationship Id="rId51" Type="http://schemas.openxmlformats.org/officeDocument/2006/relationships/audio" Target="../media/horse_whine1.WAV"/><Relationship Id="rId52" Type="http://schemas.openxmlformats.org/officeDocument/2006/relationships/audio" Target="../media/horse_scream1.wav"/><Relationship Id="rId53" Type="http://schemas.openxmlformats.org/officeDocument/2006/relationships/audio" Target="../media/loud_whinny.wav"/><Relationship Id="rId54" Type="http://schemas.openxmlformats.org/officeDocument/2006/relationships/audio" Target="../media/horse_whine1.WAV"/><Relationship Id="rId55" Type="http://schemas.openxmlformats.org/officeDocument/2006/relationships/audio" Target="../media/horse_snort1.wav"/><Relationship Id="rId56" Type="http://schemas.openxmlformats.org/officeDocument/2006/relationships/audio" Target="../media/horse_scream1.wav"/><Relationship Id="rId57" Type="http://schemas.openxmlformats.org/officeDocument/2006/relationships/audio" Target="../media/applause.wav"/><Relationship Id="rId58" Type="http://schemas.openxmlformats.org/officeDocument/2006/relationships/audio" Target="../media/horse_pass2.wav"/><Relationship Id="rId59" Type="http://schemas.openxmlformats.org/officeDocument/2006/relationships/audio" Target="../media/loud_whinny.wav"/><Relationship Id="rId60" Type="http://schemas.openxmlformats.org/officeDocument/2006/relationships/audio" Target="../media/horse_snort1.wav"/><Relationship Id="rId61" Type="http://schemas.openxmlformats.org/officeDocument/2006/relationships/audio" Target="../media/horse_whine1.WAV"/><Relationship Id="rId62" Type="http://schemas.openxmlformats.org/officeDocument/2006/relationships/audio" Target="../media/horse_scream1.wav"/><Relationship Id="rId63" Type="http://schemas.openxmlformats.org/officeDocument/2006/relationships/audio" Target="../media/loud_whinny.wav"/><Relationship Id="rId64" Type="http://schemas.openxmlformats.org/officeDocument/2006/relationships/audio" Target="../media/horse_whine1.WAV"/><Relationship Id="rId65" Type="http://schemas.openxmlformats.org/officeDocument/2006/relationships/audio" Target="../media/horse_snort1.wav"/><Relationship Id="rId66" Type="http://schemas.openxmlformats.org/officeDocument/2006/relationships/audio" Target="../media/horse_scream1.wav"/><Relationship Id="rId67" Type="http://schemas.openxmlformats.org/officeDocument/2006/relationships/audio" Target="../media/applause.wav"/><Relationship Id="rId6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ople.uncw.edu/ertzbergerj/msgame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685800"/>
            <a:ext cx="672480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ilmington Stake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5" descr="PE03732_"/>
          <p:cNvPicPr/>
          <p:nvPr/>
        </p:nvPicPr>
        <p:blipFill>
          <a:blip r:embed="rId1"/>
          <a:stretch/>
        </p:blipFill>
        <p:spPr>
          <a:xfrm>
            <a:off x="-2590920" y="3886200"/>
            <a:ext cx="458316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85 -0.00023 L 0.50764 -0.00023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3"/>
          <p:cNvSpPr/>
          <p:nvPr/>
        </p:nvSpPr>
        <p:spPr>
          <a:xfrm>
            <a:off x="8839080" y="263520"/>
            <a:ext cx="228600" cy="525780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/>
          <p:cNvSpPr/>
          <p:nvPr/>
        </p:nvSpPr>
        <p:spPr>
          <a:xfrm>
            <a:off x="312408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rk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22"/>
          <p:cNvSpPr txBox="1"/>
          <p:nvPr/>
        </p:nvSpPr>
        <p:spPr>
          <a:xfrm>
            <a:off x="55440" y="25560"/>
            <a:ext cx="322128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ilmington Stake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Picture 23" descr="PE03732_"/>
          <p:cNvPicPr/>
          <p:nvPr/>
        </p:nvPicPr>
        <p:blipFill>
          <a:blip r:embed="rId2"/>
          <a:stretch/>
        </p:blipFill>
        <p:spPr>
          <a:xfrm>
            <a:off x="0" y="295200"/>
            <a:ext cx="1459080" cy="874800"/>
          </a:xfrm>
          <a:prstGeom prst="rect">
            <a:avLst/>
          </a:prstGeom>
          <a:ln w="0">
            <a:noFill/>
          </a:ln>
        </p:spPr>
      </p:pic>
      <p:sp>
        <p:nvSpPr>
          <p:cNvPr id="48" name="Line 26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4" descr="blue_horse"/>
          <p:cNvPicPr/>
          <p:nvPr/>
        </p:nvPicPr>
        <p:blipFill>
          <a:blip r:embed="rId3"/>
          <a:stretch/>
        </p:blipFill>
        <p:spPr>
          <a:xfrm>
            <a:off x="0" y="2048040"/>
            <a:ext cx="1419120" cy="847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9" descr="light_green_horse"/>
          <p:cNvPicPr/>
          <p:nvPr/>
        </p:nvPicPr>
        <p:blipFill>
          <a:blip r:embed="rId4"/>
          <a:stretch/>
        </p:blipFill>
        <p:spPr>
          <a:xfrm>
            <a:off x="0" y="120960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orange_horse1"/>
          <p:cNvPicPr/>
          <p:nvPr/>
        </p:nvPicPr>
        <p:blipFill>
          <a:blip r:embed="rId5"/>
          <a:stretch/>
        </p:blipFill>
        <p:spPr>
          <a:xfrm>
            <a:off x="-47520" y="463860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purple_horse"/>
          <p:cNvPicPr/>
          <p:nvPr/>
        </p:nvPicPr>
        <p:blipFill>
          <a:blip r:embed="rId6"/>
          <a:stretch/>
        </p:blipFill>
        <p:spPr>
          <a:xfrm>
            <a:off x="0" y="288612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1" descr="light_blue"/>
          <p:cNvPicPr/>
          <p:nvPr/>
        </p:nvPicPr>
        <p:blipFill>
          <a:blip r:embed="rId7"/>
          <a:stretch/>
        </p:blipFill>
        <p:spPr>
          <a:xfrm>
            <a:off x="0" y="3800520"/>
            <a:ext cx="14191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Line 72"/>
          <p:cNvSpPr/>
          <p:nvPr/>
        </p:nvSpPr>
        <p:spPr>
          <a:xfrm>
            <a:off x="76320" y="26352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7"/>
          <p:cNvSpPr/>
          <p:nvPr/>
        </p:nvSpPr>
        <p:spPr>
          <a:xfrm>
            <a:off x="167652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8"/>
          <p:cNvSpPr/>
          <p:nvPr/>
        </p:nvSpPr>
        <p:spPr>
          <a:xfrm>
            <a:off x="22860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0"/>
          <p:cNvSpPr/>
          <p:nvPr/>
        </p:nvSpPr>
        <p:spPr>
          <a:xfrm>
            <a:off x="457200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r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F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1"/>
          <p:cNvSpPr/>
          <p:nvPr/>
        </p:nvSpPr>
        <p:spPr>
          <a:xfrm>
            <a:off x="601992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ght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F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2"/>
          <p:cNvSpPr/>
          <p:nvPr/>
        </p:nvSpPr>
        <p:spPr>
          <a:xfrm>
            <a:off x="746748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S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orse_pass2.wav"/>
                                        </p:tgtEl>
                                      </p:cMediaNode>
                                    </p:audio>
                                    <p:animMotion origin="layout" path="M 2.5E-006 -2.96296E-006 L 0.10364 -2.96296E-006 E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rse_snort1.wav"/>
                                        </p:tgtEl>
                                      </p:cMediaNode>
                                    </p:audio>
                                    <p:animMotion origin="layout" path="M 0.10364 -2.96296E-006 L 0.17864 -2.96296E-006 E">
                                      <p:cBhvr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rse_whine1.WAV"/>
                                        </p:tgtEl>
                                      </p:cMediaNode>
                                    </p:audio>
                                    <p:animMotion origin="layout" path="M 0.17865 -2.96296E-006 L 0.25834 -2.96296E-006 E"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oud_whinny.wav"/>
                                        </p:tgtEl>
                                      </p:cMediaNode>
                                    </p:audio>
                                    <p:animMotion origin="layout" path="M 0.25833 -2.96296E-006 L 0.32864 -2.96296E-006 E"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orse_snort1.wav"/>
                                        </p:tgtEl>
                                      </p:cMediaNode>
                                    </p:audio>
                                    <p:animMotion origin="layout" path="M 0.32864 -2.96296E-006 L 0.39531 -2.96296E-006 E">
                                      <p:cBhvr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orse_whine1.WAV"/>
                                        </p:tgtEl>
                                      </p:cMediaNode>
                                    </p:audio>
                                    <p:animMotion origin="layout" path="M 0.39531 -2.96296E-006 L 0.46198 -2.96296E-006 E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orse_scream1.wav"/>
                                        </p:tgtEl>
                                      </p:cMediaNode>
                                    </p:audio>
                                    <p:animMotion origin="layout" path="M 0.46198 -2.96296E-006 L 0.55364 -2.96296E-006 E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orse_snort1.wav"/>
                                        </p:tgtEl>
                                      </p:cMediaNode>
                                    </p:audio>
                                    <p:animMotion origin="layout" path="M 0.55364 -2.96296E-006 L 0.65364 -2.96296E-006 E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oud_whinny.wav"/>
                                        </p:tgtEl>
                                      </p:cMediaNode>
                                    </p:audio>
                                    <p:animMotion origin="layout" path="M 0.65364 -2.96296E-006 L 0.77864 -2.96296E-006 E">
                                      <p:cBhvr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animMotion origin="layout" path="M 0.77864 -4.95608E-006 L 0.83698 -4.95608E-006 E">
                                      <p:cBhvr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orse_pass2.wav"/>
                                        </p:tgtEl>
                                      </p:cMediaNode>
                                    </p:audio>
                                    <p:animMotion origin="layout" path="M 0.00573 -4.09806E-006 L 0.11146 -4.09806E-006 E">
                                      <p:cBhvr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orse_snort1.wav"/>
                                        </p:tgtEl>
                                      </p:cMediaNode>
                                    </p:audio>
                                    <p:animMotion origin="layout" path="M 0.11146 -4.09806E-006 L 0.18073 -4.09806E-006 E"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orse_snort1.wav"/>
                                        </p:tgtEl>
                                      </p:cMediaNode>
                                    </p:audio>
                                    <p:animMotion origin="layout" path="M 0.18073 -4.09806E-006 L 0.25573 -4.09806E-006 E">
                                      <p:cBhvr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oud_whinny.wav"/>
                                        </p:tgtEl>
                                      </p:cMediaNode>
                                    </p:audio>
                                    <p:animMotion origin="layout" path="M 0.25573 -4.09806E-006 L 0.3224 -4.09806E-006 E">
                                      <p:cBhvr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orse_scream1.wav"/>
                                        </p:tgtEl>
                                      </p:cMediaNode>
                                    </p:audio>
                                    <p:animMotion origin="layout" path="M 0.3224 -4.09806E-006 L 0.3974 -4.09806E-006 E">
                                      <p:cBhvr>
                                        <p:cTn id="6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orse_whine1.WAV"/>
                                        </p:tgtEl>
                                      </p:cMediaNode>
                                    </p:audio>
                                    <p:animMotion origin="layout" path="M 0.3974 -4.09806E-006 L 0.45573 -4.09806E-006 E">
                                      <p:cBhvr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orse_snort1.wav"/>
                                        </p:tgtEl>
                                      </p:cMediaNode>
                                    </p:audio>
                                    <p:animMotion origin="layout" path="M 0.45573 -4.09806E-006 L 0.5474 -4.09806E-006 E">
                                      <p:cBhvr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oud_whinny.wav"/>
                                        </p:tgtEl>
                                      </p:cMediaNode>
                                    </p:audio>
                                    <p:animMotion origin="layout" path="M 0.5474 -4.09806E-006 L 0.65573 -4.09806E-006 E">
                                      <p:cBhvr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orse_scream1.wav"/>
                                        </p:tgtEl>
                                      </p:cMediaNode>
                                    </p:audio>
                                    <p:animMotion origin="layout" path="M 0.65573 -4.09806E-006 L 0.78073 -4.09806E-006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Motion origin="layout" path="M 0.78073 -4.09806E-006 L 0.8474 -4.09806E-006 E">
                                      <p:cBhvr>
                                        <p:cTn id="8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orse_pass2.wav"/>
                                        </p:tgtEl>
                                      </p:cMediaNode>
                                    </p:audio>
                                    <p:animMotion origin="layout" path="M 0.00573 3.33333E-006 L 0.11146 3.33333E-006 E">
                                      <p:cBhvr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oud_whinny.wav"/>
                                        </p:tgtEl>
                                      </p:cMediaNode>
                                    </p:audio>
                                    <p:animMotion origin="layout" path="M 0.11146 3.33333E-006 L 0.18073 3.33333E-006 E">
                                      <p:cBhvr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orse_whine1.WAV"/>
                                        </p:tgtEl>
                                      </p:cMediaNode>
                                    </p:audio>
                                    <p:animMotion origin="layout" path="M 0.18073 3.33333E-006 L 0.25573 3.33333E-006 E">
                                      <p:cBhvr>
                                        <p:cTn id="10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orse_snort1.wav"/>
                                        </p:tgtEl>
                                      </p:cMediaNode>
                                    </p:audio>
                                    <p:animMotion origin="layout" path="M 0.25573 3.33333E-006 L 0.33073 3.33333E-006 E">
                                      <p:cBhvr>
                                        <p:cTn id="10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orse_scream1.wav"/>
                                        </p:tgtEl>
                                      </p:cMediaNode>
                                    </p:audio>
                                    <p:animMotion origin="layout" path="M 0.33073 3.33333E-006 L 0.3974 3.33333E-006 E">
                                      <p:cBhvr>
                                        <p:cTn id="1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orse_whine1.WAV"/>
                                        </p:tgtEl>
                                      </p:cMediaNode>
                                    </p:audio>
                                    <p:animMotion origin="layout" path="M 0.3974 3.33333E-006 L 0.45573 3.33333E-006 E">
                                      <p:cBhvr>
                                        <p:cTn id="11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oud_whinny.wav"/>
                                        </p:tgtEl>
                                      </p:cMediaNode>
                                    </p:audio>
                                    <p:animMotion origin="layout" path="M 0.45573 3.33333E-006 L 0.5474 3.33333E-006 E">
                                      <p:cBhvr>
                                        <p:cTn id="1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orse_whine1.WAV"/>
                                        </p:tgtEl>
                                      </p:cMediaNode>
                                    </p:audio>
                                    <p:animMotion origin="layout" path="M 0.5474 3.33333E-006 L 0.65573 3.33333E-006 E">
                                      <p:cBhvr>
                                        <p:cTn id="12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orse_scream1.wav"/>
                                        </p:tgtEl>
                                      </p:cMediaNode>
                                    </p:audio>
                                    <p:animMotion origin="layout" path="M 0.65573 3.33333E-006 L 0.7724 3.33333E-006 E">
                                      <p:cBhvr>
                                        <p:cTn id="12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applause.wav"/>
                                        </p:tgtEl>
                                      </p:cMediaNode>
                                    </p:audio>
                                    <p:animMotion origin="layout" path="M 0.7724 3.33333E-006 L 0.8474 3.33333E-006 E">
                                      <p:cBhvr>
                                        <p:cTn id="13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orse_pass2.wav"/>
                                        </p:tgtEl>
                                      </p:cMediaNode>
                                    </p:audio>
                                    <p:animMotion origin="layout" path="M -4.16667E-006 1.11111E-006 L 0.11407 1.11111E-006 E">
                                      <p:cBhvr>
                                        <p:cTn id="13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oud_whinny.wav"/>
                                        </p:tgtEl>
                                      </p:cMediaNode>
                                    </p:audio>
                                    <p:animMotion origin="layout" path="M 0.11407 1.11111E-006 L 0.18073 1.11111E-006 E">
                                      <p:cBhvr>
                                        <p:cTn id="1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orse_snort1.wav"/>
                                        </p:tgtEl>
                                      </p:cMediaNode>
                                    </p:audio>
                                    <p:animMotion origin="layout" path="M 0.18073 1.11111E-006 L 0.26407 1.11111E-006 E">
                                      <p:cBhvr>
                                        <p:cTn id="14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orse_whine1.WAV"/>
                                        </p:tgtEl>
                                      </p:cMediaNode>
                                    </p:audio>
                                    <p:animMotion origin="layout" path="M 0.26407 1.11111E-006 L 0.33073 1.11111E-006 E">
                                      <p:cBhvr>
                                        <p:cTn id="14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orse_scream1.wav"/>
                                        </p:tgtEl>
                                      </p:cMediaNode>
                                    </p:audio>
                                    <p:animMotion origin="layout" path="M 0.33073 1.11111E-006 L 0.3974 1.11111E-006 E">
                                      <p:cBhvr>
                                        <p:cTn id="15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oud_whinny.wav"/>
                                        </p:tgtEl>
                                      </p:cMediaNode>
                                    </p:audio>
                                    <p:animMotion origin="layout" path="M 0.3974 1.11111E-006 L 0.46407 1.11111E-006 E">
                                      <p:cBhvr>
                                        <p:cTn id="15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horse_whine1.WAV"/>
                                        </p:tgtEl>
                                      </p:cMediaNode>
                                    </p:audio>
                                    <p:animMotion origin="layout" path="M 0.46407 1.11111E-006 L 0.5474 1.11111E-006 E">
                                      <p:cBhvr>
                                        <p:cTn id="15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orse_snort1.wav"/>
                                        </p:tgtEl>
                                      </p:cMediaNode>
                                    </p:audio>
                                    <p:animMotion origin="layout" path="M 0.5474 1.11111E-006 L 0.65573 1.11111E-006 E">
                                      <p:cBhvr>
                                        <p:cTn id="16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orse_scream1.wav"/>
                                        </p:tgtEl>
                                      </p:cMediaNode>
                                    </p:audio>
                                    <p:animMotion origin="layout" path="M 0.65573 1.11111E-006 L 0.76407 1.11111E-006 E">
                                      <p:cBhvr>
                                        <p:cTn id="16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pplause.wav"/>
                                        </p:tgtEl>
                                      </p:cMediaNode>
                                    </p:audio>
                                    <p:animMotion origin="layout" path="M 0.76407 1.11111E-006 L 0.8474 1.11111E-006 E">
                                      <p:cBhvr>
                                        <p:cTn id="17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orse_pass2.wav"/>
                                        </p:tgtEl>
                                      </p:cMediaNode>
                                    </p:audio>
                                    <p:animMotion origin="layout" path="M -4.16667E-006 -2.22222E-006 L 0.11407 -2.22222E-006 E">
                                      <p:cBhvr>
                                        <p:cTn id="17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oud_whinny.wav"/>
                                        </p:tgtEl>
                                      </p:cMediaNode>
                                    </p:audio>
                                    <p:animMotion origin="layout" path="M 0.11406 -2.22222E-006 L 0.18038 -2.22222E-006 E">
                                      <p:cBhvr>
                                        <p:cTn id="18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orse_snort1.wav"/>
                                        </p:tgtEl>
                                      </p:cMediaNode>
                                    </p:audio>
                                    <p:animMotion origin="layout" path="M 0.18038 -2.22222E-006 L 0.26372 -2.22222E-006 E">
                                      <p:cBhvr>
                                        <p:cTn id="1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orse_whine1.WAV"/>
                                        </p:tgtEl>
                                      </p:cMediaNode>
                                    </p:audio>
                                    <p:animMotion origin="layout" path="M 0.26372 -2.22222E-006 L 0.33907 -2.22222E-006 E">
                                      <p:cBhvr>
                                        <p:cTn id="18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orse_scream1.wav"/>
                                        </p:tgtEl>
                                      </p:cMediaNode>
                                    </p:audio>
                                    <p:animMotion origin="layout" path="M 0.33907 -2.22222E-006 L 0.3974 -2.22222E-006 E">
                                      <p:cBhvr>
                                        <p:cTn id="19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oud_whinny.wav"/>
                                        </p:tgtEl>
                                      </p:cMediaNode>
                                    </p:audio>
                                    <p:animMotion origin="layout" path="M 0.3974 -2.22222E-006 L 0.46407 -2.22222E-006 E">
                                      <p:cBhvr>
                                        <p:cTn id="19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orse_whine1.WAV"/>
                                        </p:tgtEl>
                                      </p:cMediaNode>
                                    </p:audio>
                                    <p:animMotion origin="layout" path="M 0.46407 -2.22222E-006 L 0.5474 -2.22222E-006 E">
                                      <p:cBhvr>
                                        <p:cTn id="20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horse_snort1.wav"/>
                                        </p:tgtEl>
                                      </p:cMediaNode>
                                    </p:audio>
                                    <p:animMotion origin="layout" path="M 0.5474 -2.22222E-006 L 0.65573 -2.22222E-006 E">
                                      <p:cBhvr>
                                        <p:cTn id="20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orse_scream1.wav"/>
                                        </p:tgtEl>
                                      </p:cMediaNode>
                                    </p:audio>
                                    <p:animMotion origin="layout" path="M 0.65573 -2.22222E-006 L 0.76407 -2.22222E-006 E">
                                      <p:cBhvr>
                                        <p:cTn id="20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pplause.wav"/>
                                        </p:tgtEl>
                                      </p:cMediaNode>
                                    </p:audio>
                                    <p:animMotion origin="layout" path="M 0.76407 -2.22222E-006 L 0.8474 -2.22222E-006 E">
                                      <p:cBhvr>
                                        <p:cTn id="21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horse_pass2.wav"/>
                                        </p:tgtEl>
                                      </p:cMediaNode>
                                    </p:audio>
                                    <p:animMotion origin="layout" path="M 4.16667E-006 -4.44444E-006 L 0.11927 -4.44444E-006 E">
                                      <p:cBhvr>
                                        <p:cTn id="21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oud_whinny.wav"/>
                                        </p:tgtEl>
                                      </p:cMediaNode>
                                    </p:audio>
                                    <p:animMotion origin="layout" path="M 0.11927 -4.44444E-006 L 0.18593 -4.44444E-006 E">
                                      <p:cBhvr>
                                        <p:cTn id="22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orse_snort1.wav"/>
                                        </p:tgtEl>
                                      </p:cMediaNode>
                                    </p:audio>
                                    <p:animMotion origin="layout" path="M 0.18593 -4.44444E-006 L 0.26927 -4.44444E-006 E">
                                      <p:cBhvr>
                                        <p:cTn id="22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orse_whine1.WAV"/>
                                        </p:tgtEl>
                                      </p:cMediaNode>
                                    </p:audio>
                                    <p:animMotion origin="layout" path="M 0.26927 -4.44444E-006 L 0.34427 -4.44444E-006 E">
                                      <p:cBhvr>
                                        <p:cTn id="22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horse_scream1.wav"/>
                                        </p:tgtEl>
                                      </p:cMediaNode>
                                    </p:audio>
                                    <p:animMotion origin="layout" path="M 0.34427 -4.44444E-006 L 0.41093 -4.44444E-006 E">
                                      <p:cBhvr>
                                        <p:cTn id="23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oud_whinny.wav"/>
                                        </p:tgtEl>
                                      </p:cMediaNode>
                                    </p:audio>
                                    <p:animMotion origin="layout" path="M 0.41093 -4.44444E-006 L 0.46927 -4.44444E-006 E">
                                      <p:cBhvr>
                                        <p:cTn id="23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horse_whine1.WAV"/>
                                        </p:tgtEl>
                                      </p:cMediaNode>
                                    </p:audio>
                                    <p:animMotion origin="layout" path="M 0.46927 -4.44444E-006 L 0.56093 -4.44444E-006 E">
                                      <p:cBhvr>
                                        <p:cTn id="24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horse_snort1.wav"/>
                                        </p:tgtEl>
                                      </p:cMediaNode>
                                    </p:audio>
                                    <p:animMotion origin="layout" path="M 0.56093 -4.44444E-006 L 0.66093 -4.44444E-006 E">
                                      <p:cBhvr>
                                        <p:cTn id="24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horse_scream1.wav"/>
                                        </p:tgtEl>
                                      </p:cMediaNode>
                                    </p:audio>
                                    <p:animMotion origin="layout" path="M 0.66093 -4.44444E-006 L 0.76927 -4.44444E-006 E">
                                      <p:cBhvr>
                                        <p:cTn id="24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applause.wav"/>
                                        </p:tgtEl>
                                      </p:cMediaNode>
                                    </p:audio>
                                    <p:animMotion origin="layout" path="M 0.76927 -4.44444E-006 L 0.8526 -4.44444E-006 E">
                                      <p:cBhvr>
                                        <p:cTn id="25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457200"/>
            <a:ext cx="8381880" cy="605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sure to check Jeff Ertzberger’s 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1:36:35Z</dcterms:created>
  <dc:creator>Jeff Ertzberger</dc:creator>
  <dc:description/>
  <dc:language>en-US</dc:language>
  <cp:lastModifiedBy>vermiglio</cp:lastModifiedBy>
  <dcterms:modified xsi:type="dcterms:W3CDTF">2008-12-06T15:20:54Z</dcterms:modified>
  <cp:revision>51</cp:revision>
  <dc:subject/>
  <dc:title>Horse or Car Race Idea</dc:title>
</cp:coreProperties>
</file>